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33E-49EC-4781-963F-DEF1F844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D52-3B23-4A52-9F91-6C75571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554-9093-4281-AA2F-712A43FA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40C-90FE-4A6A-9A88-E8F3EAB9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626-F107-434A-8A6D-7AC6B60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79D-D9CA-45CC-ACE5-7D94A31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5BE-D63A-4DCF-85CE-32C7678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7ED-BEBA-4BA8-B058-CAA4C49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E87-A1A4-4BD4-9EF8-50C4E0A3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697-C8F1-4B5F-A4C8-C07735F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B9B-8C83-4B4F-9D57-C58A3B4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3FA-3C61-46DF-902A-509646F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460A-F40F-4E7C-94C5-641C587A9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2120" y="3048120"/>
            <a:ext cx="844092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2b29"/>
                </a:solidFill>
                <a:latin typeface="Times New Roman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Offers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   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ree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   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ree Exc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   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ree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You are not saving to a computer.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You are saving to the Intern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9760" y="1820520"/>
            <a:ext cx="966312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cooles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aspect of GoogleDocs is that multiple people can work on it at the same time.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Unfortunately, due to security you cannot sign-up for GoogleDocs at school with overriding the filter.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ut, if you sign-up for it at home you can use it at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2b29"/>
                </a:solidFill>
                <a:latin typeface="Times New Roman"/>
              </a:rPr>
              <a:t>Google Doc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ff"/>
                </a:solidFill>
                <a:latin typeface="Times New Roman"/>
              </a:rPr>
              <a:t>To sign-up you need an active email address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